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87C-F276-409B-9397-A437C024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719-7D29-4EAC-8C0C-7883979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40B7-E01B-4847-AC5E-BF660B2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F29EB-B32D-45DF-A183-77448BA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958D5-C8CF-4FDA-9464-A1B5AAF9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213D1-C2EC-415A-86A6-6FA4380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C32B0-0A5B-4DFD-B2E1-C5771FE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194F7-3A79-4F93-9DEF-5A46E96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1B9A6-87C8-40FD-8680-FD49612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12A7D-9B4A-4503-AA4E-B1BF445A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523E-7CD1-4D5C-AE93-D8C679AA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6F091-5CE3-4A7A-9D46-7D3891F3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FBE-3E49-4411-A787-E417858B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0A4E2-B70A-4595-9C97-D2B2D3F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8DDF4-9414-43AA-86D2-C48D20A6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0922E-B31A-41F2-85D4-8F5D7F31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5016-9E90-457F-8BD7-8D14DEC6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1ED06-6492-47CE-A1E8-A9219E9A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1ECDE-87C9-4F73-B8CF-625C687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A9BD4-261E-4F0C-A7EE-C0FCFF4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3AA7E-51B2-4014-8917-F87BCFA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24E4E-EB47-4819-A781-DF28AE05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3F3A3-2198-4243-B4D4-D90E89C5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0DB-AB5E-49AF-A3BD-20778B59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49BC-7CB1-438C-8F11-709A3A31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50FF7-403B-4B97-B1B7-6041029D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9A580-C7B7-43A8-9529-42A6A19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939CF-05E6-42E5-9ABC-C5D77049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F02B-9EAB-4E6E-8D35-80AF2F3F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85DEC-3D43-4A13-87C2-63506EC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948F0-0DEF-4146-A363-4A72097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A7A0-7B14-4E09-88BE-EA65418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05A43-BA84-434A-97BC-FD9D76C0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3A87F-47F6-4074-809D-603F219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86B7-7958-4FE5-ABB1-1E6D59F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4C013-42D3-43B5-96DD-C0AD0B3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DC3D7-0F06-4E2E-AA37-7C392009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41996-236F-478D-8B41-6D016375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334E0-A535-4024-AAC3-E0D19834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B53D-9D42-4F10-92B0-0E966FF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65D60-A2A9-4238-B257-FE55DF6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00250-6955-4836-A400-F2738CA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27285-7EA7-4D6F-BAF2-72942A7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09934-2B19-4725-B96B-D116C65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4F83F-C86E-4606-AD3F-B75DC5A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219-76EB-4574-8E99-78A00EE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CE6EF-7C4D-44B1-A021-33AD799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17297-D2BF-4145-A079-782ABBB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385E2-2104-42A9-84C6-DF46DA7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866AA-1F73-42C8-9ED0-5B985D3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E1BD7-13C9-422F-9FEA-3CC670A7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EFBD-B9CE-44AC-8B30-3EEAD153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0622-D726-4623-B7D2-3EC610D6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428F-573C-474C-9E17-395F21F2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2B9B-A1AA-4032-9CBE-F5DCAB0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2AAC-0061-4848-82EE-5145AC7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580-48BF-4FEF-B096-1DB72FC4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8C0-302C-4275-B7C1-71E1F55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67FF-11E1-40C9-AE19-593460D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975-AA8D-46A3-A7CD-BBE1814B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70D-33CE-4B41-807D-972C5720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B61-CB60-47A9-8519-51552752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CE1F-987C-4362-A64D-9E38EFE4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0D3C-401B-4A5D-9AD8-80F7435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9B6F-9714-4432-BDCD-6C986969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286A-A418-406A-8702-91649C2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5949-B5B3-43CE-BC16-334A41F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804-9D97-4BC2-A0B9-E86FCC37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9483-65CE-435D-9945-80DC029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D6F6-0B74-4A91-8B17-864FA4F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2DE1-579C-4F5D-83FE-32A3EB5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67DC-3EF9-445F-A72B-0E50339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4C16-B367-402D-BA68-1DBBF2E8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617E-770D-4644-9850-DB2E7D6F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0D06-257F-4F43-B159-5742794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1E50-E0B3-4920-81D7-91EA12B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3217-43BF-4033-9372-579B8E2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1FDB-8970-4687-988D-19575B5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51A-CFE6-4311-98E9-A7E6D4E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52EC-FA71-4703-844C-108E169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C4B9-5C8E-4117-87B4-566E4B1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E5F1-A61F-40C0-9924-E93F19D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CA3F-AD21-4447-B9B1-B767620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BCE1-5EB5-4A1E-8BEF-9DC6F97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B31C-289B-4A86-A980-EA1C578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7411-9C4B-4475-8153-BE3B127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42E4-63AE-4BF4-9CB3-1DB54188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05BF-C8C2-4581-AC21-4E3EC86A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481A-8296-4FE1-A887-B8EC2B5D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4EF-EA53-4FF5-932C-EE5B5B2B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9483-4671-425C-B912-CF5F473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2C3A-6E59-4714-8A45-1736D75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FC6A-70F8-47C8-8324-4BF0BA71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C311-8590-4EB8-BBB2-D230DDD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46C0-BD99-424C-8A50-83A2900C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9096-F4B8-48E9-9F23-34EF823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38D9-ECFE-4DD4-9DED-80CE53C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FB29-239A-4275-AF37-6912FDD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85C8-313E-4449-98F8-7C91904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4C82-2C88-4987-8104-CF9A857E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98F-33C0-4AF9-A29D-234E03BC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FC4F-E5F8-4E3E-AF2A-C593887A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36B6-0FA8-4452-A30C-21297F64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1A60-AE76-4FDC-BE82-9940B94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FAD0-8332-431E-B81B-27FB37C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B2B1D-5BF3-4DAA-8ED8-0F7E451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2223-4CB4-45AB-9A01-D4D45F5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A5CE3-234B-4220-A4C2-C256415B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78A5-545C-4175-9286-5966CBB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B3CA-F1D3-47A6-B84D-0521DA2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676A2-F7BE-43C1-BD11-A6160C2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21E-6E67-4EB6-B4D6-A0AC688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CD38-BA3D-42EE-8EC6-825E8C4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5FB8-8110-4425-9646-7B914338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6F4E0-FB42-411B-A33C-4962CEE8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EA775-69B6-4AEA-83F4-BECC2242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BE79-5479-48BB-837F-312173FD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268E-5430-44DA-B370-DEEBEC07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1120-B31A-4BA3-9F8F-E788660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A09F-F0B7-48F8-AD5C-B8F1830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39645-3BFD-43B6-9EC8-FCE786B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7C35-D5BD-4AA3-8996-43D771C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51A-059D-4C45-861A-7CDEA4FC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2D4EF-DB84-4190-9DB8-AEB7CDB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82E2-A234-4251-873C-A5403D1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CDB7-AFC2-4756-8408-33D98C9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9309-A2B7-4C9D-9384-625EDF0D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1A067-2C1E-4431-A56C-9EBD3788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6F9EA-CF9B-42D2-8876-1CC8A848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CE54-7C98-49F7-9BF8-1BE8B3FB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4D39-843E-4DBF-97A0-3E1A4F9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050E-8B0F-4067-9712-02A7AEA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4B1B-B161-4EC0-A7F1-FD560496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490-401F-420D-AC7F-F9DF449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4921-63B0-4233-9D1F-25D29F8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B429-83EB-4E63-A500-5057868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F628A-6662-4BD6-86F6-F0C597F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699B-35D9-4841-9E22-1084E24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31F9A-B15A-4288-B44E-3EDC0774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F1B5-87B8-4DAC-B77C-066C312D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0FA8-4654-414D-A2CE-19E84EF5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9AD6-9F1A-449E-9A1E-D0D04FAA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40B4-4200-437B-BA98-FF376DE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B9AD1-07C4-4E24-86FF-8E729DF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83C-BACF-4F93-99ED-680AE55C506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96F-69F5-426D-994F-280A13B0A2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5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5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5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5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6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7FF5-8761-4283-92C9-DDA28BAAF3D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0E1-1C67-4F2D-8BB7-41825E06ED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966-40AD-460C-818A-6E64B494EED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971-12EE-455D-A083-DB485AC6272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3C92-8A28-47F0-9B4A-A12CC3CBAE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2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3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5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5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6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6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6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7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7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8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8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9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9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9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0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1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1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1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2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2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3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3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BD05-6D9A-4AD1-A9B8-4201F7542DF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2B3-1682-4B8C-9C83-23887CF8E4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6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686-1728-4F36-8755-D6853D0B22B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F2F-4918-4428-A55F-4CD322F501D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6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A00F-5B1F-4014-9B9B-C8721D4A1D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WordArt 4"/>
          <p:cNvSpPr txBox="1"/>
          <p:nvPr/>
        </p:nvSpPr>
        <p:spPr>
          <a:xfrm>
            <a:off x="611280" y="260280"/>
            <a:ext cx="75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удвоенные соглас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67" name="WordArt 5"/>
          <p:cNvSpPr txBox="1"/>
          <p:nvPr/>
        </p:nvSpPr>
        <p:spPr>
          <a:xfrm>
            <a:off x="1763640" y="1773360"/>
            <a:ext cx="61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слова с ошибкой</a:t>
            </a:r>
            <a:endParaRPr b="0" lang="en-US" sz="1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8" name="AutoShape 7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8"/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9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10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11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3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6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7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8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9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0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1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22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23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4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25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26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27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28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29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30"/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31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2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33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4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5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6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7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8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39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40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41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2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43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4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5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6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7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8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9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50">
            <a:hlinkClick r:id="rId1" action="ppaction://hlinksldjump"/>
          </p:cNvPr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51">
            <a:hlinkClick r:id="rId2" action="ppaction://hlinksldjump"/>
          </p:cNvPr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52">
            <a:hlinkClick r:id="rId3" action="ppaction://hlinksldjump"/>
          </p:cNvPr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53">
            <a:hlinkClick r:id="rId4" action="ppaction://hlinksldjump"/>
          </p:cNvPr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54">
            <a:hlinkClick r:id="rId5" action="ppaction://hlinksldjump"/>
          </p:cNvPr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55">
            <a:hlinkClick r:id="rId6" action="ppaction://hlinksldjump"/>
          </p:cNvPr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56">
            <a:hlinkClick r:id="" action="ppaction://hlinkshowjump?jump=nextslide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3794"/>
                </a:moveTo>
                <a:lnTo>
                  <a:pt x="24649" y="10800"/>
                </a:lnTo>
                <a:lnTo>
                  <a:pt x="106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WordArt 5"/>
          <p:cNvSpPr txBox="1"/>
          <p:nvPr/>
        </p:nvSpPr>
        <p:spPr>
          <a:xfrm>
            <a:off x="1187280" y="18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переносятся сло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двоенными согласны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AutoShape 7">
            <a:hlinkClick r:id="rId1" action="ppaction://hlinksldjump"/>
          </p:cNvPr>
          <p:cNvSpPr/>
          <p:nvPr/>
        </p:nvSpPr>
        <p:spPr>
          <a:xfrm>
            <a:off x="611280" y="2565360"/>
            <a:ext cx="748800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 буквы остаются на ст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611280" y="364500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 буквы перенос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9"/>
          <p:cNvSpPr/>
          <p:nvPr/>
        </p:nvSpPr>
        <p:spPr>
          <a:xfrm>
            <a:off x="611280" y="4797360"/>
            <a:ext cx="7561080" cy="107964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буква остается на стр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другая перен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0">
            <a:hlinkClick r:id="" action="ppaction://hlinkshowjump?jump=nextslide"/>
          </p:cNvPr>
          <p:cNvSpPr/>
          <p:nvPr/>
        </p:nvSpPr>
        <p:spPr>
          <a:xfrm>
            <a:off x="7956720" y="6138720"/>
            <a:ext cx="1187280" cy="719280"/>
          </a:xfrm>
          <a:custGeom>
            <a:avLst/>
            <a:gdLst>
              <a:gd name="textAreaLeft" fmla="*/ 46440 w 1187280"/>
              <a:gd name="textAreaRight" fmla="*/ 1140840 w 1187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47" h="21600">
                <a:moveTo>
                  <a:pt x="10817" y="3794"/>
                </a:moveTo>
                <a:lnTo>
                  <a:pt x="24830" y="10800"/>
                </a:lnTo>
                <a:lnTo>
                  <a:pt x="1081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4"/>
          <p:cNvSpPr txBox="1"/>
          <p:nvPr/>
        </p:nvSpPr>
        <p:spPr>
          <a:xfrm>
            <a:off x="1798560" y="297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жно ли провери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исание удвоенных согласных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AutoShape 7"/>
          <p:cNvSpPr/>
          <p:nvPr/>
        </p:nvSpPr>
        <p:spPr>
          <a:xfrm>
            <a:off x="755640" y="2427120"/>
            <a:ext cx="7920000" cy="1506600"/>
          </a:xfrm>
          <a:custGeom>
            <a:avLst/>
            <a:gdLst>
              <a:gd name="textAreaLeft" fmla="*/ 0 w 7920000"/>
              <a:gd name="textAreaRight" fmla="*/ 7920360 w 7920000"/>
              <a:gd name="textAreaTop" fmla="*/ 195120 h 1506600"/>
              <a:gd name="textAreaBottom" fmla="*/ 13114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826920" y="4365720"/>
            <a:ext cx="7705800" cy="1506600"/>
          </a:xfrm>
          <a:custGeom>
            <a:avLst/>
            <a:gdLst>
              <a:gd name="textAreaLeft" fmla="*/ 0 w 7705800"/>
              <a:gd name="textAreaRight" fmla="*/ 7706160 w 7705800"/>
              <a:gd name="textAreaTop" fmla="*/ 195120 h 1506600"/>
              <a:gd name="textAreaBottom" fmla="*/ 13114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WordArt 9"/>
          <p:cNvSpPr txBox="1"/>
          <p:nvPr/>
        </p:nvSpPr>
        <p:spPr>
          <a:xfrm>
            <a:off x="900000" y="465300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, такие слова нужно запомнит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4" name="WordArt 10"/>
          <p:cNvSpPr txBox="1"/>
          <p:nvPr/>
        </p:nvSpPr>
        <p:spPr>
          <a:xfrm>
            <a:off x="826920" y="2781360"/>
            <a:ext cx="7490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а, нужно подобрать проверочное сло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5" name="AutoShape 11">
            <a:hlinkClick r:id="" action="ppaction://hlinkshowjump?jump=next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WordArt 4"/>
          <p:cNvSpPr txBox="1"/>
          <p:nvPr/>
        </p:nvSpPr>
        <p:spPr>
          <a:xfrm>
            <a:off x="468360" y="243000"/>
            <a:ext cx="7416720" cy="15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ое слово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аждой группе лишнее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7" name="AutoShape 5"/>
          <p:cNvSpPr/>
          <p:nvPr/>
        </p:nvSpPr>
        <p:spPr>
          <a:xfrm>
            <a:off x="1476360" y="1916280"/>
            <a:ext cx="3024360" cy="3671640"/>
          </a:xfrm>
          <a:prstGeom prst="verticalScrol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…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…л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6"/>
          <p:cNvSpPr/>
          <p:nvPr/>
        </p:nvSpPr>
        <p:spPr>
          <a:xfrm>
            <a:off x="4886280" y="1916280"/>
            <a:ext cx="3024360" cy="3600360"/>
          </a:xfrm>
          <a:prstGeom prst="verticalScrol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…ей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…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…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2195640" y="1773360"/>
            <a:ext cx="8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8"/>
          <p:cNvSpPr/>
          <p:nvPr/>
        </p:nvSpPr>
        <p:spPr>
          <a:xfrm>
            <a:off x="5867280" y="1989000"/>
            <a:ext cx="8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1763640" y="393372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…ш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5056920" y="485928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…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1">
            <a:hlinkClick r:id="" action="ppaction://hlinkshowjump?jump=lastslide"/>
          </p:cNvPr>
          <p:cNvSpPr/>
          <p:nvPr/>
        </p:nvSpPr>
        <p:spPr>
          <a:xfrm>
            <a:off x="7885080" y="6237360"/>
            <a:ext cx="1258920" cy="620640"/>
          </a:xfrm>
          <a:custGeom>
            <a:avLst/>
            <a:gdLst>
              <a:gd name="textAreaLeft" fmla="*/ 39960 w 1258920"/>
              <a:gd name="textAreaRight" fmla="*/ 1218960 w 1258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3801" h="21600">
                <a:moveTo>
                  <a:pt x="0" y="0"/>
                </a:moveTo>
                <a:lnTo>
                  <a:pt x="43801" y="0"/>
                </a:lnTo>
                <a:lnTo>
                  <a:pt x="43801" y="21600"/>
                </a:lnTo>
                <a:lnTo>
                  <a:pt x="0" y="21600"/>
                </a:lnTo>
                <a:close/>
              </a:path>
              <a:path fill="lightenLess" w="43801" h="21600">
                <a:moveTo>
                  <a:pt x="0" y="0"/>
                </a:moveTo>
                <a:lnTo>
                  <a:pt x="43801" y="0"/>
                </a:lnTo>
                <a:lnTo>
                  <a:pt x="42401" y="1400"/>
                </a:lnTo>
                <a:lnTo>
                  <a:pt x="1400" y="1400"/>
                </a:lnTo>
                <a:close/>
              </a:path>
              <a:path fill="darken" w="43801" h="21600">
                <a:moveTo>
                  <a:pt x="43801" y="0"/>
                </a:moveTo>
                <a:lnTo>
                  <a:pt x="43801" y="21600"/>
                </a:lnTo>
                <a:lnTo>
                  <a:pt x="42401" y="20200"/>
                </a:lnTo>
                <a:lnTo>
                  <a:pt x="42401" y="1400"/>
                </a:lnTo>
                <a:close/>
              </a:path>
              <a:path fill="darkenLess" w="43801" h="21600">
                <a:moveTo>
                  <a:pt x="4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01" y="20200"/>
                </a:lnTo>
                <a:close/>
              </a:path>
              <a:path fill="lighten" w="4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01" h="21600">
                <a:moveTo>
                  <a:pt x="25399" y="10800"/>
                </a:moveTo>
                <a:lnTo>
                  <a:pt x="14894" y="17806"/>
                </a:lnTo>
                <a:lnTo>
                  <a:pt x="14894" y="3794"/>
                </a:lnTo>
                <a:close/>
              </a:path>
              <a:path fill="darken" w="43801" h="21600">
                <a:moveTo>
                  <a:pt x="27245" y="3794"/>
                </a:moveTo>
                <a:lnTo>
                  <a:pt x="27245" y="17806"/>
                </a:lnTo>
                <a:lnTo>
                  <a:pt x="28907" y="17806"/>
                </a:lnTo>
                <a:lnTo>
                  <a:pt x="28907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WordArt 4"/>
          <p:cNvSpPr txBox="1"/>
          <p:nvPr/>
        </p:nvSpPr>
        <p:spPr>
          <a:xfrm>
            <a:off x="1042920" y="2492280"/>
            <a:ext cx="5905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AutoShape 5">
            <a:hlinkClick r:id="" action="ppaction://hlinkshowjump?jump=previousslide"/>
          </p:cNvPr>
          <p:cNvSpPr/>
          <p:nvPr/>
        </p:nvSpPr>
        <p:spPr>
          <a:xfrm>
            <a:off x="7991640" y="6237360"/>
            <a:ext cx="1152360" cy="620640"/>
          </a:xfrm>
          <a:custGeom>
            <a:avLst/>
            <a:gdLst>
              <a:gd name="textAreaLeft" fmla="*/ 39960 w 1152360"/>
              <a:gd name="textAreaRight" fmla="*/ 1112400 w 115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095" h="21600">
                <a:moveTo>
                  <a:pt x="0" y="0"/>
                </a:moveTo>
                <a:lnTo>
                  <a:pt x="40095" y="0"/>
                </a:lnTo>
                <a:lnTo>
                  <a:pt x="40095" y="21600"/>
                </a:lnTo>
                <a:lnTo>
                  <a:pt x="0" y="21600"/>
                </a:lnTo>
                <a:close/>
              </a:path>
              <a:path fill="lightenLess" w="40095" h="21600">
                <a:moveTo>
                  <a:pt x="0" y="0"/>
                </a:moveTo>
                <a:lnTo>
                  <a:pt x="40095" y="0"/>
                </a:lnTo>
                <a:lnTo>
                  <a:pt x="38695" y="1400"/>
                </a:lnTo>
                <a:lnTo>
                  <a:pt x="1400" y="1400"/>
                </a:lnTo>
                <a:close/>
              </a:path>
              <a:path fill="darken" w="40095" h="21600">
                <a:moveTo>
                  <a:pt x="40095" y="0"/>
                </a:moveTo>
                <a:lnTo>
                  <a:pt x="40095" y="21600"/>
                </a:lnTo>
                <a:lnTo>
                  <a:pt x="38695" y="20200"/>
                </a:lnTo>
                <a:lnTo>
                  <a:pt x="38695" y="1400"/>
                </a:lnTo>
                <a:close/>
              </a:path>
              <a:path fill="darkenLess" w="40095" h="21600">
                <a:moveTo>
                  <a:pt x="40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5" y="20200"/>
                </a:lnTo>
                <a:close/>
              </a:path>
              <a:path fill="lighten" w="40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5" h="21600">
                <a:moveTo>
                  <a:pt x="13041" y="7493"/>
                </a:moveTo>
                <a:lnTo>
                  <a:pt x="16548" y="7493"/>
                </a:lnTo>
                <a:lnTo>
                  <a:pt x="16548" y="12828"/>
                </a:lnTo>
                <a:cubicBezTo>
                  <a:pt x="16548" y="13751"/>
                  <a:pt x="17349" y="14482"/>
                  <a:pt x="18385" y="14482"/>
                </a:cubicBezTo>
                <a:lnTo>
                  <a:pt x="20047" y="14482"/>
                </a:lnTo>
                <a:cubicBezTo>
                  <a:pt x="21083" y="14482"/>
                  <a:pt x="21884" y="13751"/>
                  <a:pt x="21884" y="12828"/>
                </a:cubicBezTo>
                <a:lnTo>
                  <a:pt x="21884" y="7493"/>
                </a:lnTo>
                <a:lnTo>
                  <a:pt x="20047" y="7493"/>
                </a:lnTo>
                <a:lnTo>
                  <a:pt x="23555" y="3985"/>
                </a:lnTo>
                <a:lnTo>
                  <a:pt x="27228" y="7493"/>
                </a:lnTo>
                <a:lnTo>
                  <a:pt x="25391" y="7493"/>
                </a:lnTo>
                <a:lnTo>
                  <a:pt x="25391" y="12828"/>
                </a:lnTo>
                <a:cubicBezTo>
                  <a:pt x="25391" y="15596"/>
                  <a:pt x="22815" y="18155"/>
                  <a:pt x="20047" y="18155"/>
                </a:cubicBezTo>
                <a:lnTo>
                  <a:pt x="18385" y="18155"/>
                </a:lnTo>
                <a:cubicBezTo>
                  <a:pt x="15617" y="18155"/>
                  <a:pt x="13041" y="15596"/>
                  <a:pt x="1304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4"/>
          <p:cNvSpPr txBox="1"/>
          <p:nvPr/>
        </p:nvSpPr>
        <p:spPr>
          <a:xfrm>
            <a:off x="2050920" y="2492280"/>
            <a:ext cx="5113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думай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7" name="AutoShape 5">
            <a:hlinkClick r:id="" action="ppaction://hlinkshowjump?jump=previousslide"/>
          </p:cNvPr>
          <p:cNvSpPr/>
          <p:nvPr/>
        </p:nvSpPr>
        <p:spPr>
          <a:xfrm>
            <a:off x="8101080" y="6210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7493"/>
                </a:moveTo>
                <a:lnTo>
                  <a:pt x="13889" y="7493"/>
                </a:lnTo>
                <a:lnTo>
                  <a:pt x="13889" y="12828"/>
                </a:lnTo>
                <a:cubicBezTo>
                  <a:pt x="13889" y="13751"/>
                  <a:pt x="14690" y="14482"/>
                  <a:pt x="15726" y="14482"/>
                </a:cubicBezTo>
                <a:lnTo>
                  <a:pt x="17388" y="14482"/>
                </a:lnTo>
                <a:cubicBezTo>
                  <a:pt x="18424" y="14482"/>
                  <a:pt x="19224" y="13751"/>
                  <a:pt x="19224" y="12828"/>
                </a:cubicBezTo>
                <a:lnTo>
                  <a:pt x="19224" y="7493"/>
                </a:lnTo>
                <a:lnTo>
                  <a:pt x="17388" y="7493"/>
                </a:lnTo>
                <a:lnTo>
                  <a:pt x="20896" y="3985"/>
                </a:lnTo>
                <a:lnTo>
                  <a:pt x="24569" y="7493"/>
                </a:lnTo>
                <a:lnTo>
                  <a:pt x="22732" y="7493"/>
                </a:lnTo>
                <a:lnTo>
                  <a:pt x="22732" y="12828"/>
                </a:lnTo>
                <a:cubicBezTo>
                  <a:pt x="22732" y="15596"/>
                  <a:pt x="20156" y="18155"/>
                  <a:pt x="17388" y="18155"/>
                </a:cubicBezTo>
                <a:lnTo>
                  <a:pt x="15726" y="18155"/>
                </a:lnTo>
                <a:cubicBezTo>
                  <a:pt x="12958" y="18155"/>
                  <a:pt x="10382" y="15596"/>
                  <a:pt x="10382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WordArt 4"/>
          <p:cNvSpPr txBox="1"/>
          <p:nvPr/>
        </p:nvSpPr>
        <p:spPr>
          <a:xfrm>
            <a:off x="3276720" y="2492280"/>
            <a:ext cx="338292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3:40:32Z</dcterms:created>
  <dc:creator>Александр</dc:creator>
  <dc:description/>
  <dc:language>en-US</dc:language>
  <cp:lastModifiedBy>Пользователь Windows</cp:lastModifiedBy>
  <dcterms:modified xsi:type="dcterms:W3CDTF">2022-06-19T18:51:23Z</dcterms:modified>
  <cp:revision>4</cp:revision>
  <dc:subject/>
  <dc:title>Слайд 1</dc:title>
</cp:coreProperties>
</file>